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6C03-3E49-4562-8949-F9A32A2CC0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FA93F-5904-4030-BE9D-B4D5DD0C0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CF83-6210-4CF5-9BB4-F62DE16D77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6EC60-EBEB-4D74-86CA-A718FC981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5F46C-B6B8-4299-AAB4-338DB2C797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805A6-DA76-42E3-9EA5-2577298E6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41AA2-9186-4F8A-8592-9C192BB9B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773A99-0558-4C59-A968-3951E85D6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3EC99-B8CE-4C98-96BC-A769858BB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CE81F-383A-4748-88A0-A32F2E9E1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30409-AE5C-4476-BA80-4E6495322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6A9EB-E71D-4630-935E-ACDE9245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9E6-C38A-446B-866F-62F2538F8C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FC6DD-CBA5-4042-9E35-02C5127BC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87099D-6B9A-4014-9E83-358F398D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A93E7-8C84-46E4-B56C-3FB9873A5C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41948-1F18-4BE2-80C9-2AD1FC2FA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71F0-1E02-464A-B9F7-EFCE463D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1969-C655-40D5-BB14-DFE9E560B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57E9-F798-49AE-913D-856ECA1C2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0F478-A65C-4F39-94EB-771A82A94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AABE-B48B-45E3-B854-0637AC05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C2F4-26BA-4D86-A6CD-A7A2B007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0E47-5A1C-415C-9307-A1467E939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2CD-7DC5-4E4F-AFCF-97B3F0DBB355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1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0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9" descr="TWOA-new-logo"/>
          <p:cNvPicPr/>
          <p:nvPr/>
        </p:nvPicPr>
        <p:blipFill>
          <a:blip r:embed="rId3"/>
          <a:stretch/>
        </p:blipFill>
        <p:spPr>
          <a:xfrm>
            <a:off x="1662120" y="1943280"/>
            <a:ext cx="5819760" cy="148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7720" y="6476760"/>
            <a:ext cx="175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763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D2BB9-6B80-411E-92D2-EC911D69A67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214280"/>
            <a:ext cx="9144000" cy="147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troduction to Small Business Manag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Module 1: Lesson 6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ertificate in Small Business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85840" y="5643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cc"/>
                </a:solidFill>
                <a:latin typeface="Arial"/>
              </a:rPr>
              <a:t>Updated Jan 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7.2 Strategy Evaluation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000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Add any other questions to the evaluation criteria that are important to you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Try evaluating each strategy using a table.</a:t>
            </a: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7.3 Strategy Selec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Use the evaluation criteria to select the best strategy for your business.</a:t>
            </a:r>
            <a:br>
              <a:rPr sz="2800"/>
            </a:b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Outline the key points why you chose this strategy instead of othe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Strategy Development and Evalu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Section 7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Strategy Develop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000080" y="16430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Aft>
                <a:spcPts val="1800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vise at least two different strategies for the future of your business. These strategies should be attempts at fulfilling the vision, mission and goals of the busines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ese alternative strategies should include your original business idea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800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f you have a good idea about what your business strategy would be, use this opportunity to develop your back up plan!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lass Exercise</a:t>
            </a:r>
            <a:r>
              <a:rPr b="1" lang="en-NZ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8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is meant by the word ‘strategy’?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 groups, come up with three alternative strategies for someone who would like to operate a business in the takeaways indust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7.1.1 What about a Franchise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92880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4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n alternative strategy could possibly involve franchising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is a franchisor? What is a franchise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lass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 groups, list all franchises that you know of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A Successful Franch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99720" y="2643120"/>
            <a:ext cx="4033800" cy="333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duct   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esenta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rade nam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rademark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Bran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upport System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4857480" y="2714400"/>
            <a:ext cx="4033800" cy="340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mag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romotio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ogo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nthusiasm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ersonal dedication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5"/>
          <p:cNvSpPr/>
          <p:nvPr/>
        </p:nvSpPr>
        <p:spPr>
          <a:xfrm>
            <a:off x="826920" y="1268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cc"/>
                </a:solidFill>
                <a:latin typeface="Arial"/>
              </a:rPr>
              <a:t>A successful franchise involves providing a total package. This package include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8800" y="928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Points to Consider when buying a Franch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00080" y="2332080"/>
            <a:ext cx="691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Get Professional Advic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nsider all the Cost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heck out Supplier Relationship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ake use of the Franchise Association of New Zealand (FANZ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Buying a Busines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684360" y="14842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See section of the textbook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 u="sng">
                <a:solidFill>
                  <a:srgbClr val="0000cc"/>
                </a:solidFill>
                <a:uFillTx/>
                <a:latin typeface="Arial"/>
              </a:rPr>
              <a:t>Class Exercis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Identify 3 advantages of buying a busi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Identify 3 disadvantages of buying a busine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What are 5 things you should look for when buying a busin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What process is involved in buying a busines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57160" y="500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7.2 Strategy Evaluation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684360" y="1557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 u="sng">
                <a:solidFill>
                  <a:srgbClr val="0000cc"/>
                </a:solidFill>
                <a:uFillTx/>
                <a:latin typeface="Arial"/>
              </a:rPr>
              <a:t>Evaluate each strateg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Is it consistent with the vision, mission, goals and culture of the busin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Does it use resources, skills and abilities to their full potenti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Will it provide the business with a source of sustainable competitive advanta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Does it mitigate weaknesse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Does it address threa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Are opportunities taken advantage of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Aft>
                <a:spcPts val="1199"/>
              </a:spcAft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Is it feasi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1:10:33Z</dcterms:created>
  <dc:creator>User</dc:creator>
  <dc:description/>
  <dc:language>en-US</dc:language>
  <cp:lastModifiedBy>Lawrence Chettiar</cp:lastModifiedBy>
  <dcterms:modified xsi:type="dcterms:W3CDTF">2014-03-03T02:08:41Z</dcterms:modified>
  <cp:revision>51</cp:revision>
  <dc:subject/>
  <dc:title>Introduction to Small Business Management</dc:title>
</cp:coreProperties>
</file>