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E6A7-6F13-4E70-8643-5ECA80F55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E633F-39B0-43DB-940E-713471AF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4B9C-9E91-478F-8AF6-2B4978158C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59C97-E851-4015-AD84-F9D0005D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3FEC7-E168-4BE1-8A05-A722AFE486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92CDB-FDF4-4D60-9037-273303093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D62D7-62AB-49A5-BD79-0B9AC39AA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1D67-1812-4FCD-9566-A59D02D64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D198-A3F3-421F-B063-81F1E723B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9C195-01E0-4518-8BEF-9C64143B6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50C60-E12A-4DC9-B02D-9E10986FD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2E19B-2D7D-48F6-A127-EEF28392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35C-D2B5-4469-84D7-A4D800BB0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7E3BD-94F4-4E75-AAC7-4F4BBDEB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679F7-033B-4844-8B2A-21813173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7006-E6EB-4052-BDFA-640DB64AEB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1ADFE-EEB5-405F-B1D1-C8AB3A783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9A0D-2BF1-41B8-B34D-FA2750A5E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4B5C8-6BC9-4A1B-B3F2-BE94190E1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7D326-F948-4745-A40B-C85AD5057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1DD0-4CE4-4B03-92ED-6A5B7C2A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AD46-DCB0-48F4-963C-C381CED27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6CAC2-6F71-4871-AB0D-CA8A7D413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5F30-7659-43AA-8242-13D3F9DBD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delta6"/>
          <p:cNvPicPr/>
          <p:nvPr/>
        </p:nvPicPr>
        <p:blipFill>
          <a:blip r:embed="rId2"/>
          <a:stretch/>
        </p:blipFill>
        <p:spPr>
          <a:xfrm>
            <a:off x="0" y="-13824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338A-5A6D-409A-B0C2-92D5E00D40E3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16621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1" descr="delta6"/>
          <p:cNvPicPr/>
          <p:nvPr/>
        </p:nvPicPr>
        <p:blipFill>
          <a:blip r:embed="rId2"/>
          <a:stretch/>
        </p:blipFill>
        <p:spPr>
          <a:xfrm>
            <a:off x="0" y="-13824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0"/>
          <p:cNvSpPr/>
          <p:nvPr/>
        </p:nvSpPr>
        <p:spPr>
          <a:xfrm>
            <a:off x="16621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9" descr="TWOA-new-logo"/>
          <p:cNvPicPr/>
          <p:nvPr/>
        </p:nvPicPr>
        <p:blipFill>
          <a:blip r:embed="rId3"/>
          <a:stretch/>
        </p:blipFill>
        <p:spPr>
          <a:xfrm>
            <a:off x="1662120" y="1943280"/>
            <a:ext cx="5819760" cy="148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7720" y="6476760"/>
            <a:ext cx="175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7636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C8AC5-C863-4BFB-BDF3-A5C56BC56658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9285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Introduction to Small Business Manag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Module 1: Lesson 5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ertificate in Small Business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85840" y="5643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cc"/>
                </a:solidFill>
                <a:latin typeface="Arial"/>
              </a:rPr>
              <a:t>Updated Jan 2010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Competitor Profi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92880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dentify your direct competitors and your indirect competi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 direct competitor is a business that offers similar products to you and targets the same market.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 indirect competitor is a business that operates in the same industry as you, but targets a different marke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Class Exercis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00008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o are direct competitors for Coca-cola softdrinks?  What about indirect competitors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ry using a Strategic Group Map to identify your direct competitor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Competitor Profil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1000080" y="1500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-597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nswer the following questions for competitor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at is the business nam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y do you consider this business to be a ‘direct competitor’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ow does their product / service different (or similar) from what you are offer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70560" indent="-5227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ere is this competitor locat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42960" y="42876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Competitor Profile Questions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341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ow well is this competing business doing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6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at are the strengths and weaknesses of this busines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7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at can be learnt from the way this competitor does busines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at other relevant information do you have regarding this competitor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Start a file on your competitors in your scrapbook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0008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6.5 Key Success Factor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928800" y="1714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ist the key factors required for success within your industry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ocus on approximately 3 – 5 factor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Class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do you think are the key success factors for a hairdresser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6.6 Industry Foresigh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92880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does the future hold for the industr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sort of work will businesses be doing in the futur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opportunities may evolv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99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threats will face the industr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6.6 Industry Foresight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92880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Class Exerci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 groups answer the following question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Arial"/>
              </a:rPr>
              <a:t>What industry foresight do you have for the telecommunications industr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9285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External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Section 6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Compon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2880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TEP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dustry Profil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Review of STEP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880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dentify external factors that may affect your business (opportunities and threats)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ocio-Cultural / Demograph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echnologic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conomic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olitical / Leg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hysical / Environmenta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Review of Industry Profi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000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.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is the market siz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c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is the growth rate of the industry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stage in the growth cyc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How fast is the pace of technological chang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Industry Profile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2880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4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re products similar or differentiat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5   Can you make use of economies of scale   in production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6.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s a high level of capital </a:t>
            </a: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utilisation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critical for success in the industry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Industry Profile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2880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7.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s the industry dominated by a few large companies, or is it fragmented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8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mment on the amount of forward and backward integration in the industr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9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s appropriately skilled labour readily availa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Industry Profile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000080" y="2000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0.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re there training opportunities 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availabl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1.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List any trends there are in cost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12.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xplain how profitable the industry is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Porter’s Five Fo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928440" y="1643040"/>
            <a:ext cx="771516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is involves identifying the strength of five different forces in the industry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ivalry among existing competito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rgaining power of buyers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at of New Competito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Bargaining power of supplier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hreat of Substitut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Activity: For each of the five forces, identify at least four factors which would affect the strength of the force.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0:59:22Z</dcterms:created>
  <dc:creator>User</dc:creator>
  <dc:description/>
  <dc:language>en-US</dc:language>
  <cp:lastModifiedBy>Lawrence Chettiar</cp:lastModifiedBy>
  <dcterms:modified xsi:type="dcterms:W3CDTF">2014-03-03T02:08:10Z</dcterms:modified>
  <cp:revision>47</cp:revision>
  <dc:subject/>
  <dc:title>Introduction to Small Business Management</dc:title>
</cp:coreProperties>
</file>