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CA652-A10E-4455-81E3-95E5B73D9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BA0E-5628-4DF2-AD0F-0EAB99D56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3900-0630-4A13-8B4D-F61AB914AF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7F9D-7CD9-400A-A04A-78659613E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73578-9835-4433-ABB3-4C4A49ABA6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72555-4E20-4960-97CD-92F0CB2DA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229E2-1787-4D8F-A339-62E9D911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26720-903D-427E-8C83-B550B1F2D9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83AF2-7DAC-48D0-814C-F3E24115D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B472-3F29-4E1E-B0B5-EDF2E4418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D57936-4DC0-4A47-9C6B-2192263E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155E4-D5D2-4B1B-814D-EC8E4D797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6C78A-50D0-442B-B473-59E9DA5A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B627-30EC-43F7-9FCA-F9FD6223A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444A8-2806-4059-BC1B-25082731D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8BADD-9FF7-4023-BF44-9DFE2409B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F2222-3AC2-4F2E-B364-F979A2764C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B7C0E-3B1D-4D4F-898A-E0C7ED738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F7A4-6109-4B02-AA16-C85299145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29DD-08A3-4875-858E-37D735754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685800" y="15192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ED68-9799-4DE2-8995-FDA7B3E2B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E58F3-713D-43F9-B5B9-AEE23B33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D9C9-412E-43C8-A920-6EA574959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0718-685C-48CD-A996-FD484B23B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2" descr="delta6"/>
          <p:cNvPicPr/>
          <p:nvPr/>
        </p:nvPicPr>
        <p:blipFill>
          <a:blip r:embed="rId2"/>
          <a:stretch/>
        </p:blipFill>
        <p:spPr>
          <a:xfrm>
            <a:off x="0" y="-138240"/>
            <a:ext cx="9144000" cy="699624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476760"/>
            <a:ext cx="2895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476760"/>
            <a:ext cx="1905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A7527-2A23-427E-993E-F1FBCA7E91E8}" type="slidenum">
              <a:rPr b="0" lang="en-US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21"/>
          <p:cNvSpPr/>
          <p:nvPr/>
        </p:nvSpPr>
        <p:spPr>
          <a:xfrm>
            <a:off x="166212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1" descr="delta6"/>
          <p:cNvPicPr/>
          <p:nvPr/>
        </p:nvPicPr>
        <p:blipFill>
          <a:blip r:embed="rId2"/>
          <a:stretch/>
        </p:blipFill>
        <p:spPr>
          <a:xfrm>
            <a:off x="0" y="-138240"/>
            <a:ext cx="9144000" cy="699624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30"/>
          <p:cNvSpPr/>
          <p:nvPr/>
        </p:nvSpPr>
        <p:spPr>
          <a:xfrm>
            <a:off x="1662120" y="2685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" name="Picture 29" descr="TWOA-new-logo"/>
          <p:cNvPicPr/>
          <p:nvPr/>
        </p:nvPicPr>
        <p:blipFill>
          <a:blip r:embed="rId3"/>
          <a:stretch/>
        </p:blipFill>
        <p:spPr>
          <a:xfrm>
            <a:off x="1662120" y="1943280"/>
            <a:ext cx="5819760" cy="14857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7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837720" y="6476760"/>
            <a:ext cx="1752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27636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933960" y="6476760"/>
            <a:ext cx="19047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635ABA-0E56-4CF3-B43A-6ADCE13E2B9F}" type="slidenum">
              <a:rPr b="0" lang="en-US" sz="8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0" y="157140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Introduction to Small Business Management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cc"/>
                </a:solidFill>
                <a:latin typeface="Arial"/>
              </a:rPr>
              <a:t>Module 1: Lesson 3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ertificate in Small Business Managemen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3"/>
          <p:cNvSpPr/>
          <p:nvPr/>
        </p:nvSpPr>
        <p:spPr>
          <a:xfrm>
            <a:off x="285840" y="5643720"/>
            <a:ext cx="22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NZ" sz="1800" spc="-1" strike="noStrike">
                <a:solidFill>
                  <a:srgbClr val="0000cc"/>
                </a:solidFill>
                <a:latin typeface="Arial"/>
              </a:rPr>
              <a:t>Updated Jan 2012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2130120"/>
            <a:ext cx="91440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Internal Analysi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0" y="3886200"/>
            <a:ext cx="91440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2800" spc="-1" strike="noStrike">
                <a:solidFill>
                  <a:srgbClr val="0000cc"/>
                </a:solidFill>
                <a:latin typeface="Arial"/>
              </a:rPr>
              <a:t>Section 5.0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28440" y="571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Skills, Capabilities, Experience and Resources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857160" y="2571840"/>
            <a:ext cx="7416720" cy="35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dentify Strengths and Weaknesses in regards to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urrent Financial Posi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Skills, Capabilities and Experienc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Tangible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ntangible Resour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57160" y="928800"/>
            <a:ext cx="807264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Skills, Capabilities, Experience and Resources (cont.)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928800" y="2642760"/>
            <a:ext cx="77724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cc"/>
                </a:solidFill>
                <a:uFillTx/>
                <a:latin typeface="Arial"/>
              </a:rPr>
              <a:t>Class Discussion:</a:t>
            </a: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is a Tangible Resource?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What is an Intangible Resource?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28800" y="50004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VRIO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61128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V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luable: Is it valuable for future busines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R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re: Are you the only business that has this strength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mitate: Is it costly or difficult to imitate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O</a:t>
            </a: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rganisation: Is the business organised in a way that allows the skill to be exploited to its full potential?  i.e. are there any weaknesses that would stop the business from using this strength to its full potential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28800" y="57168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NZ" sz="4000" spc="-1" strike="noStrike">
                <a:solidFill>
                  <a:srgbClr val="ff0000"/>
                </a:solidFill>
                <a:latin typeface="Arial"/>
              </a:rPr>
              <a:t>Competitive Advantage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826560" y="191592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f the answer is ‘Yes’ to all four questions:  The business has a source of sustainable competitive advantage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If you do not have a source of sustainable competitive advantage, work out how you will develop an advantage over your competitors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201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cc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What are your Unique Selling Points?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9T10:59:22Z</dcterms:created>
  <dc:creator>User</dc:creator>
  <dc:description/>
  <dc:language>en-US</dc:language>
  <cp:lastModifiedBy>Lawrence Chettiar</cp:lastModifiedBy>
  <dcterms:modified xsi:type="dcterms:W3CDTF">2014-03-03T02:06:59Z</dcterms:modified>
  <cp:revision>40</cp:revision>
  <dc:subject/>
  <dc:title>Introduction to Small Business Management</dc:title>
</cp:coreProperties>
</file>