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D4A05-5735-4939-8987-80C500F46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252F2-2421-4EBD-AD23-0225DF824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A990-A6B5-4A67-A8EE-F185C8B7FB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6565E-5AAA-4F3B-A552-6F3A44557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0494D4-A836-475B-B32E-077BBFEBA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C1D25-A181-426F-8AF0-E2E5AFE7E7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CA31A-D931-44DB-A99B-190E5AF89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9462C-9D03-4022-8A07-8D65B48C1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6060C-EE3B-416C-A329-FB4226DC0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AE683-9BF8-404A-AB98-1690B80E0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4E1A7-DC2C-4A1C-9CBC-B17F3513E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58366-D93F-417A-85DD-6BDE0EFE1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895A9-B163-4867-935B-50299776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A758D-23A3-47A3-9664-BAF8D054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0C474-7E07-4341-B2C3-119694D08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D1807-3A67-4383-8589-BEC53D195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56F6D1-D5CE-4194-9E8A-60E564C25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AA21-48CE-44E2-9014-EBE00BF00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E0A1-A009-41BD-BC86-7EB21218DE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5C1AC-9715-4255-B6C6-DF7396217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3FA85-62DD-454C-A7BA-F6D80EEEF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3DE6-9134-4259-BA08-950E4F42A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67EE-C9A4-4D14-B3C3-58434E8B2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F7C9-9484-4766-A4B5-80D7DA731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2" descr="delta6"/>
          <p:cNvPicPr/>
          <p:nvPr/>
        </p:nvPicPr>
        <p:blipFill>
          <a:blip r:embed="rId2"/>
          <a:stretch/>
        </p:blipFill>
        <p:spPr>
          <a:xfrm>
            <a:off x="0" y="-138240"/>
            <a:ext cx="9144000" cy="699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92E79-7576-4628-A828-4CEC681D182C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21"/>
          <p:cNvSpPr/>
          <p:nvPr/>
        </p:nvSpPr>
        <p:spPr>
          <a:xfrm>
            <a:off x="1662120" y="26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1" descr="delta6"/>
          <p:cNvPicPr/>
          <p:nvPr/>
        </p:nvPicPr>
        <p:blipFill>
          <a:blip r:embed="rId2"/>
          <a:stretch/>
        </p:blipFill>
        <p:spPr>
          <a:xfrm>
            <a:off x="0" y="-138240"/>
            <a:ext cx="9144000" cy="699624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30"/>
          <p:cNvSpPr/>
          <p:nvPr/>
        </p:nvSpPr>
        <p:spPr>
          <a:xfrm>
            <a:off x="1662120" y="26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29" descr="TWOA-new-logo"/>
          <p:cNvPicPr/>
          <p:nvPr/>
        </p:nvPicPr>
        <p:blipFill>
          <a:blip r:embed="rId3"/>
          <a:stretch/>
        </p:blipFill>
        <p:spPr>
          <a:xfrm>
            <a:off x="1662120" y="1943280"/>
            <a:ext cx="5819760" cy="14857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837720" y="6476760"/>
            <a:ext cx="1752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27636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933960" y="647676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6814F-81F2-4DD2-946C-6ACFC244DD3F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12855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0000"/>
                </a:solidFill>
                <a:latin typeface="Arial"/>
              </a:rPr>
              <a:t>Introduction to Small Business Managemen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0" y="34290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cc"/>
                </a:solidFill>
                <a:latin typeface="Arial"/>
              </a:rPr>
              <a:t>Module 1: Lesson 4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Certificate in Small Business Manag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285840" y="5643720"/>
            <a:ext cx="22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cc"/>
                </a:solidFill>
                <a:latin typeface="Arial"/>
              </a:rPr>
              <a:t>Updated Jan 2012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128556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0000"/>
                </a:solidFill>
                <a:latin typeface="Arial"/>
              </a:rPr>
              <a:t>External Analysi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cc"/>
                </a:solidFill>
                <a:latin typeface="Arial"/>
              </a:rPr>
              <a:t>Section 6.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28800" y="5000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0000"/>
                </a:solidFill>
                <a:latin typeface="Arial"/>
              </a:rPr>
              <a:t>Component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928440" y="2000160"/>
            <a:ext cx="7427880" cy="38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STEPP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Industry Analysi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Porter’s Five Forc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Competitive Profile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Key Success Factor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Industry Foresigh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14240" y="5000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0000"/>
                </a:solidFill>
                <a:latin typeface="Arial"/>
              </a:rPr>
              <a:t>6.1 STEPP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642960" y="1571400"/>
            <a:ext cx="7772400" cy="454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dentify external factors that may affect your business (opportunities and threats)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S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ocio-Cultural / Demographi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T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echnologic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E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nomic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olitical / Leg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hysical / Environmenta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ake sure you explain how each factor will affect your business.  If you identify any threats, how severe are these?  If you identify any opportunities, how realistic are they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28800" y="5716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0000"/>
                </a:solidFill>
                <a:latin typeface="Arial"/>
              </a:rPr>
              <a:t>6.2 Industry Profil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84360" y="1844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1.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What is the market siz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2.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What is the growth rate of the industry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What stage in the growth cycl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How fast is the pace of technological chang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4.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re products/services  similar or differentiated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28800" y="5716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0000"/>
                </a:solidFill>
                <a:latin typeface="Arial"/>
              </a:rPr>
              <a:t>6.2 Industry Profile (cont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928800" y="1856880"/>
            <a:ext cx="7772400" cy="447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an you make use of economies of scale in production? 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s a high level of capital utilisation critical for success in the industry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0000cc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s the industry dominated by a few large companies, or is it fragmented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8.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omment on the amount of forward and backward integration in the industry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28800" y="5716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0000"/>
                </a:solidFill>
                <a:latin typeface="Arial"/>
              </a:rPr>
              <a:t>6.2 Industry Profile (cont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928800" y="1928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9.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s appropriately skilled </a:t>
            </a:r>
            <a:r>
              <a:rPr b="1" lang="en-NZ" sz="2400" spc="-1" strike="noStrike">
                <a:solidFill>
                  <a:srgbClr val="0000cc"/>
                </a:solidFill>
                <a:latin typeface="Arial"/>
              </a:rPr>
              <a:t>labour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 readily availabl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10.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re there training opportunities availabl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11.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List any trends there are in cost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12.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Explain how profitable the industry i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9T10:59:22Z</dcterms:created>
  <dc:creator>User</dc:creator>
  <dc:description/>
  <dc:language>en-US</dc:language>
  <cp:lastModifiedBy>Lawrence Chettiar</cp:lastModifiedBy>
  <dcterms:modified xsi:type="dcterms:W3CDTF">2014-03-03T02:07:34Z</dcterms:modified>
  <cp:revision>39</cp:revision>
  <dc:subject/>
  <dc:title>Introduction to Small Business Management</dc:title>
</cp:coreProperties>
</file>